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SOUND18.WAV" ContentType="audio/x-wav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5A4B-FC49-4AC6-84E1-1AB2FD71F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30F9-CD01-4BEC-BB2F-7446A53B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632C-FB4A-43D9-B091-507B0E85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39F3-8D27-45ED-A980-DE731684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2B8D-82A6-4E87-966A-C477180E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375D-7208-490A-9F4F-84476283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F425-4E8E-4C48-91B8-395BD1EF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D071-6419-4566-9740-017B3B06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9B25-1F4C-4760-8B78-C595B2DD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517E-16D2-4B09-A8FB-FBBEFA5D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131A-A8D4-4315-8BEB-88424811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24A2-BE3A-47AB-9ADE-72485736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5478-AF38-429E-8833-A3AA5704522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SOUND18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2"/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371600" y="1066680"/>
            <a:ext cx="2666880" cy="132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Principio de Onero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Art. 16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Código Ci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5029200" y="4648320"/>
            <a:ext cx="2666880" cy="132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Frutos Civ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Art. 23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Código Ci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371600" y="4648320"/>
            <a:ext cx="2666880" cy="132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Derecho de Traba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Art. 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Constitución 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5181480" y="685800"/>
            <a:ext cx="2667240" cy="225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Derecho de Prop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Art. 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Constitución 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Inexig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Servicios Pers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4038480" y="5334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9"/>
          <p:cNvSpPr/>
          <p:nvPr/>
        </p:nvSpPr>
        <p:spPr>
          <a:xfrm flipV="1">
            <a:off x="6400800" y="28951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 flipH="1">
            <a:off x="4038120" y="1752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11"/>
          <p:cNvSpPr/>
          <p:nvPr/>
        </p:nvSpPr>
        <p:spPr>
          <a:xfrm>
            <a:off x="3581280" y="2895480"/>
            <a:ext cx="1981440" cy="1143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Art. 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Constit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Oval 12"/>
          <p:cNvSpPr/>
          <p:nvPr/>
        </p:nvSpPr>
        <p:spPr>
          <a:xfrm>
            <a:off x="3200400" y="2666880"/>
            <a:ext cx="2666880" cy="15242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13"/>
          <p:cNvSpPr txBox="1"/>
          <p:nvPr/>
        </p:nvSpPr>
        <p:spPr>
          <a:xfrm>
            <a:off x="2990880" y="2451240"/>
            <a:ext cx="316224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rt. 2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stitució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acion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3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j0283988"/>
          <p:cNvPicPr/>
          <p:nvPr/>
        </p:nvPicPr>
        <p:blipFill>
          <a:blip r:embed="rId1"/>
          <a:stretch/>
        </p:blipFill>
        <p:spPr>
          <a:xfrm>
            <a:off x="6553080" y="380880"/>
            <a:ext cx="2206800" cy="25909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3"/>
          <p:cNvSpPr/>
          <p:nvPr/>
        </p:nvSpPr>
        <p:spPr>
          <a:xfrm>
            <a:off x="2133720" y="99072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Resolución Judi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4"/>
          <p:cNvSpPr/>
          <p:nvPr/>
        </p:nvSpPr>
        <p:spPr>
          <a:xfrm>
            <a:off x="4572000" y="16002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15"/>
          <p:cNvSpPr/>
          <p:nvPr/>
        </p:nvSpPr>
        <p:spPr>
          <a:xfrm>
            <a:off x="2514600" y="2590920"/>
            <a:ext cx="4114800" cy="2361960"/>
          </a:xfrm>
          <a:prstGeom prst="ellipse">
            <a:avLst/>
          </a:prstGeom>
          <a:solidFill>
            <a:srgbClr val="ffff66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Decla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T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el derecho al honor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OUND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j0390998"/>
          <p:cNvPicPr/>
          <p:nvPr/>
        </p:nvPicPr>
        <p:blipFill>
          <a:blip r:embed="rId1"/>
          <a:stretch/>
        </p:blipFill>
        <p:spPr>
          <a:xfrm>
            <a:off x="3532320" y="457200"/>
            <a:ext cx="2079360" cy="2971800"/>
          </a:xfrm>
          <a:prstGeom prst="rect">
            <a:avLst/>
          </a:prstGeom>
          <a:ln w="0">
            <a:noFill/>
          </a:ln>
        </p:spPr>
      </p:pic>
      <p:sp>
        <p:nvSpPr>
          <p:cNvPr id="57" name="Line 4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676520" y="4419720"/>
            <a:ext cx="5867280" cy="2133360"/>
          </a:xfrm>
          <a:prstGeom prst="ellipse">
            <a:avLst/>
          </a:prstGeom>
          <a:solidFill>
            <a:srgbClr val="ccffcc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HONOR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6553080" y="577800"/>
            <a:ext cx="2109960" cy="946080"/>
          </a:xfrm>
          <a:prstGeom prst="borderCallout2">
            <a:avLst>
              <a:gd name="adj1" fmla="val 18750"/>
              <a:gd name="adj2" fmla="val -8333"/>
              <a:gd name="adj3" fmla="val 12078"/>
              <a:gd name="adj4" fmla="val -39125"/>
              <a:gd name="adj5" fmla="val 174666"/>
              <a:gd name="adj6" fmla="val -7592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Art. 271 L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Ley 24.4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9"/>
          <p:cNvSpPr/>
          <p:nvPr/>
        </p:nvSpPr>
        <p:spPr>
          <a:xfrm>
            <a:off x="4572000" y="3422520"/>
            <a:ext cx="838080" cy="0"/>
          </a:xfrm>
          <a:prstGeom prst="line">
            <a:avLst/>
          </a:prstGeom>
          <a:ln w="190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3"/>
          <p:cNvSpPr/>
          <p:nvPr/>
        </p:nvSpPr>
        <p:spPr>
          <a:xfrm>
            <a:off x="5029200" y="3429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5" descr="j0280328"/>
          <p:cNvPicPr/>
          <p:nvPr/>
        </p:nvPicPr>
        <p:blipFill>
          <a:blip r:embed="rId1"/>
          <a:stretch/>
        </p:blipFill>
        <p:spPr>
          <a:xfrm>
            <a:off x="2593800" y="762120"/>
            <a:ext cx="3954600" cy="32288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8"/>
          <p:cNvSpPr/>
          <p:nvPr/>
        </p:nvSpPr>
        <p:spPr>
          <a:xfrm>
            <a:off x="2340000" y="4267080"/>
            <a:ext cx="3311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AR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y 19.5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2 % / 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8 % / 2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A cargo del Concu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5796000" y="4267080"/>
            <a:ext cx="302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AR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y 24.5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1 % / 4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4 % / 12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A cargo del Sínd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304920" y="4800600"/>
            <a:ext cx="198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on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Quieb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Hon. Le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Times New Roman"/>
              </a:rPr>
              <a:t>ARANCEL ART. 32 L.C.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j0280328"/>
          <p:cNvPicPr/>
          <p:nvPr/>
        </p:nvPicPr>
        <p:blipFill>
          <a:blip r:embed="rId1"/>
          <a:stretch/>
        </p:blipFill>
        <p:spPr>
          <a:xfrm>
            <a:off x="3359160" y="1628640"/>
            <a:ext cx="2424240" cy="19447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395280" y="4221000"/>
            <a:ext cx="842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Times New Roman"/>
              </a:rPr>
              <a:t>AGOSTO/95    % REM. SEC             HOY     % REM. S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UY" sz="2400" spc="-1" strike="noStrike">
                <a:solidFill>
                  <a:srgbClr val="000000"/>
                </a:solidFill>
                <a:latin typeface="Times New Roman"/>
              </a:rPr>
              <a:t>$ 50                   2,5 %                  $ 50            0,46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s-UY" sz="3200" spc="-1" strike="noStrike">
                <a:solidFill>
                  <a:srgbClr val="000000"/>
                </a:solidFill>
                <a:latin typeface="Times New Roman"/>
              </a:rPr>
              <a:t>DETERIORO     82 %    </a:t>
            </a:r>
            <a:r>
              <a:rPr b="1" lang="es-UY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UY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21:20:52Z</dcterms:created>
  <dc:creator>Pablo</dc:creator>
  <dc:description/>
  <dc:language>en-US</dc:language>
  <cp:lastModifiedBy>Windows User</cp:lastModifiedBy>
  <dcterms:modified xsi:type="dcterms:W3CDTF">2011-07-14T15:43:20Z</dcterms:modified>
  <cp:revision>20</cp:revision>
  <dc:subject/>
  <dc:title>Presentación de PowerPoint</dc:title>
</cp:coreProperties>
</file>